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30A-42B0-4201-9751-5236A491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354-81C1-467C-8FEE-9D4B1C1D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661-61F1-4740-AF7A-EC6D1962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B29-6F2C-4B95-A9C0-2414FD80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65A-4EDD-4C87-B67E-3E12E523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ACC-FD9E-41BE-BDD4-C6DCA4D3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8E1-7BDE-4C08-AEF9-AE0C436E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5FC-352C-444E-9435-934053B3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74E-059D-420D-AC59-9281FC67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F3F-1A98-4175-A220-B940C63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36F-65CC-428D-87C4-451F5078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97A-7238-4927-AB0D-EA12ED3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CD8C-C25E-4E32-BF75-1F248B0F4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955.WAV" TargetMode="External"/><Relationship Id="rId2" Type="http://schemas.microsoft.com/office/2007/relationships/media" Target="file:///tmp/home/.config/libreoffice/4/user/gallery/~PP395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~PP1437.WAV" TargetMode="External"/><Relationship Id="rId3" Type="http://schemas.microsoft.com/office/2007/relationships/media" Target="file:///tmp/home/.config/libreoffice/4/user/gallery/~PP143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~PP638.WAV" TargetMode="External"/><Relationship Id="rId3" Type="http://schemas.microsoft.com/office/2007/relationships/media" Target="file:///tmp/home/.config/libreoffice/4/user/gallery/~PP63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698.WAV" TargetMode="External"/><Relationship Id="rId3" Type="http://schemas.microsoft.com/office/2007/relationships/media" Target="file:///tmp/home/.config/libreoffice/4/user/gallery/~PP69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1211.WAV" TargetMode="External"/><Relationship Id="rId3" Type="http://schemas.microsoft.com/office/2007/relationships/media" Target="file:///tmp/home/.config/libreoffice/4/user/gallery/~PP121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~PP912.WAV" TargetMode="External"/><Relationship Id="rId3" Type="http://schemas.microsoft.com/office/2007/relationships/media" Target="file:///tmp/home/.config/libreoffice/4/user/gallery/~PP91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~PP50.WAV" TargetMode="External"/><Relationship Id="rId3" Type="http://schemas.microsoft.com/office/2007/relationships/media" Target="file:///tmp/home/.config/libreoffice/4/user/gallery/~PP5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~PP3515.WAV" TargetMode="External"/><Relationship Id="rId3" Type="http://schemas.microsoft.com/office/2007/relationships/media" Target="file:///tmp/home/.config/libreoffice/4/user/gallery/~PP351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~PP3403.WAV" TargetMode="External"/><Relationship Id="rId3" Type="http://schemas.microsoft.com/office/2007/relationships/media" Target="file:///tmp/home/.config/libreoffice/4/user/gallery/~PP340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3073.WAV" TargetMode="External"/><Relationship Id="rId3" Type="http://schemas.microsoft.com/office/2007/relationships/media" Target="file:///tmp/home/.config/libreoffice/4/user/gallery/~PP307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~PP2258.WAV" TargetMode="External"/><Relationship Id="rId3" Type="http://schemas.microsoft.com/office/2007/relationships/media" Target="file:///tmp/home/.config/libreoffice/4/user/gallery/~PP225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1428.WAV" TargetMode="External"/><Relationship Id="rId3" Type="http://schemas.microsoft.com/office/2007/relationships/media" Target="file:///tmp/home/.config/libreoffice/4/user/gallery/~PP142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~PP894.WAV" TargetMode="External"/><Relationship Id="rId3" Type="http://schemas.microsoft.com/office/2007/relationships/media" Target="file:///tmp/home/.config/libreoffice/4/user/gallery/~PP89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3738.WAV" TargetMode="External"/><Relationship Id="rId3" Type="http://schemas.microsoft.com/office/2007/relationships/media" Target="file:///tmp/home/.config/libreoffice/4/user/gallery/~PP373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~PP2533.WAV" TargetMode="External"/><Relationship Id="rId3" Type="http://schemas.microsoft.com/office/2007/relationships/media" Target="file:///tmp/home/.config/libreoffice/4/user/gallery/~PP25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ga (Emily) Mars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am der 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in See geschwomm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4254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ein Apfel gegess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295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in eine Taxi gefah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553440" cy="4917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ago hat mir gut gefall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1619280"/>
            <a:ext cx="4400640" cy="440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sollst Chicago besuch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781680" cy="376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Chicago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8120" y="2214720"/>
            <a:ext cx="3203280" cy="240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ohne in eine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162920" cy="449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am Michigan Aven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2104920"/>
            <a:ext cx="6019920" cy="403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Brot gekau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3840" y="1295280"/>
            <a:ext cx="4314960" cy="464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piele Fussb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52520" y="1285920"/>
            <a:ext cx="6438960" cy="4286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Klamotten Gekauf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chlaufe ge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95360" y="1442880"/>
            <a:ext cx="4553280" cy="3972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otografiert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14680" y="161928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10:22Z</dcterms:created>
  <dc:creator>CUSD220</dc:creator>
  <dc:description/>
  <dc:language>en-US</dc:language>
  <cp:lastModifiedBy>CUSD220</cp:lastModifiedBy>
  <dcterms:modified xsi:type="dcterms:W3CDTF">2011-11-15T18:31:45Z</dcterms:modified>
  <cp:revision>3</cp:revision>
  <dc:subject/>
  <dc:title>Meine Ferien</dc:title>
</cp:coreProperties>
</file>